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3E37-EB28-43CB-9D13-D7109528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5300-8988-4DBC-80F8-EBCD3751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B421-1085-4E3E-8F23-FFD11B6C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C002-6C37-449B-87C0-C8C04079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0F24-09CF-48D2-AEAB-E1F5E027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BF45-44ED-4E20-9025-0E29E16D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F76-56F5-49CD-98C7-CA5F85C3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01CB-1E11-4CFC-8C93-B022ED3B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2FD2-8807-436B-A57C-2E3A1E8B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FED1-E97C-4323-843B-B98BD59C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FBC9-F0BC-4BDF-B613-D128C6A5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3ECB-AB6C-4AF8-A326-B135D993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486A-8F66-40B7-BD6E-56FD59A39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law.ou.edu/hist/flags/stflagmtwy.shtml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northcarolina.shtml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enchantedlearning.com/usa/states/northcarolina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9400" y="48769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4952880"/>
            <a:ext cx="2514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 Fitzgera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9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304920"/>
            <a:ext cx="853452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orth Carolina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4952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6386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562720"/>
            <a:ext cx="3124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rth Carolina State S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4/10/12, www.50stat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00ccff"/>
            </a:gs>
            <a:gs pos="100000">
              <a:srgbClr val="ff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: Rale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: 8,049,3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ed the Union: November 21, 1789 (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to: Esse Quam Verdi-To Be Rather than To S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name: Tar Heel State, Old North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er: American Dog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d: Card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g: The Old North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Behind Name: Named after Charles IX. Female name for Charles is Caro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ing Facts: Home to Major Colleges such as Duke, University of North Carolina, and North Carolina State. State Gem is the Emerald. The 1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sident Andrew Johnson is from North Carol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5562720"/>
            <a:ext cx="853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5638680"/>
            <a:ext cx="8610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.ou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 State Flag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21/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aw.ou.edu/hist/flags/stflagmtwy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64008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state flag of North Carolina. The colors are red, white and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80880"/>
            <a:ext cx="7391520" cy="4162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" y="4952880"/>
            <a:ext cx="7391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rth Carol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1/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nchantedlearning.com/usa/states/northcarolin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571500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state flag of North Carolina. North Carolina neighbors Tennessee, Virginia, South Carolina, a small part of Georgia, and the Atlantic Oce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685800" y="380880"/>
            <a:ext cx="7772400" cy="4419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120" y="2743200"/>
            <a:ext cx="88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48006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029200"/>
            <a:ext cx="8001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Fro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right Brothers National Memorial, Kitty Hawk, 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2/2012, http://www.postcardsfrom.com/t1/00031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6095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ostcard of the memorial for the Wright Brothers. The Wright Brothers were the first people to ever fly a pl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Cardinal"/>
          <p:cNvPicPr/>
          <p:nvPr/>
        </p:nvPicPr>
        <p:blipFill>
          <a:blip r:embed="rId1"/>
          <a:stretch/>
        </p:blipFill>
        <p:spPr>
          <a:xfrm>
            <a:off x="457200" y="312840"/>
            <a:ext cx="3581280" cy="3402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880" y="3962520"/>
            <a:ext cx="36576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irds of America, The Cardinal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22/12, http://www.50states.com/flower/northcarolin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267080" y="304920"/>
            <a:ext cx="4267440" cy="342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00600" y="4038480"/>
            <a:ext cx="37339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rth Carolina State Fl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2/12, http://www.50states.com/flower/northcarolin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97996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6386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state bird, The Card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791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state flower, American Dogw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6:34Z</dcterms:created>
  <dc:creator>install</dc:creator>
  <dc:description/>
  <dc:language>en-US</dc:language>
  <cp:lastModifiedBy>install</cp:lastModifiedBy>
  <dcterms:modified xsi:type="dcterms:W3CDTF">2012-04-16T13:04:42Z</dcterms:modified>
  <cp:revision>11</cp:revision>
  <dc:subject/>
  <dc:title>Slide 1</dc:title>
</cp:coreProperties>
</file>